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5EC-DCAB-4DB8-BCF8-A4578368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930-E3A8-4C5F-91AA-66671919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33B-4788-4EAE-A74B-4A1CDB21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ED3-3534-4189-9171-824BA816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EF6-5C5A-4D95-AB36-EE965CEF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DFC2-9DF1-4F1D-9551-BA6E081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ED46-5AD8-461A-A199-5BF12DF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48A6-35BD-45F3-912D-D52FBF26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A583-B142-4BA8-890E-42240FC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2A45-ADA4-4108-8B4B-96ADEAE2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194E-1999-422F-AFAB-AF8C972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05B-073E-4A6A-90BC-7E6BD43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592-5A9A-4541-B84D-22C63B9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172-18C4-4750-9233-FE00BB4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00EE-6871-4E99-B762-B363564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B589-A1BB-435F-937E-B71A9E87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D126-F9D1-4566-B60A-43141CE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62F-DEF0-4A40-929C-AB1A23C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72C-8AC8-46D1-B249-BD32CB0F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24F-1F6F-443D-AB20-BE2A0FDC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908-CD07-4DE7-93C6-8030341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142-2E8A-4F72-AB24-7392645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7DA-6CE0-45BF-9C8D-C67699C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4E7-AC0B-4C00-AB00-D323C02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FBB-D878-4E47-BA17-8C1874700A6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469-108F-448C-8AC2-651C1DC97B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6705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WELCOM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Garamond"/>
              </a:rPr>
              <a:t>FREEDOM ARE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Garamond"/>
              </a:rPr>
              <a:t>HIGH 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fhs.gif (21345 bytes)"/>
          <p:cNvPicPr/>
          <p:nvPr/>
        </p:nvPicPr>
        <p:blipFill>
          <a:blip r:embed="rId1"/>
          <a:stretch/>
        </p:blipFill>
        <p:spPr>
          <a:xfrm>
            <a:off x="380880" y="1143000"/>
            <a:ext cx="183852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53080" y="914400"/>
            <a:ext cx="2148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mart Classro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Cart for Each Cor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urrently only funded for Math &amp;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-30 Laptops Per C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Whiteboard, Projector, Webcam, Digital Camera, Printer, Sc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Educational Softwar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urrent Technology Applications</a:t>
            </a:r>
            <a:br>
              <a:rPr sz="59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Office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Publishing &amp;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&amp; Mus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rol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S Researcher/Pro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Video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Movi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d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s2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nier Science Softwar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Environment &amp; Ecolog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ny, Many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Future Technology Application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piration Softwa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active Whiteboar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Trekk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quest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Sight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obe Software Su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ellite Lear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al Enroll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ectives Thru Online Vend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ck Institute for Edu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utop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cessful Practices Net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udy Is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DE EdHu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h Appl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ology…can transform the classroom experience from old school…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tch the computer part on the right to its function on the le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heat from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anent file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voltage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Technology driven 2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entury Learning Experienc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your digital camera to photograph the computer components, then upload them to your laptop, import them into Moviemaker Software and create a movie that identifies the component and explains its function for successful computer ope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ul and Nikkos make a movie 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66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not just about cool equipme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ashy softw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Training Tea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Providing The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Engagi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It’s about Transforming the Classroom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28960" y="914400"/>
            <a:ext cx="8915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ission of Freedom Area High School is to facilitate a collaborative learning environment for all students that will improve achievement in oral and writ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core content and technology literacy, and also provide necessary interventions for students to ensure success in career and citizenship prepa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of 7 Schools in Pennsylv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rece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720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rooms for the Future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spcBef>
                <a:spcPts val="9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&amp; Career Counseling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7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nsylvania’s High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REFOR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ority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y of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able Literacy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Rigor &amp; Relevance of Instr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lture of High Expectations for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9th Grade Su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 a New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Core Learning (Test Sco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Relationships at All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Student Goals – Life After High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8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Academic Inter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FREEDOM AREA HIGH SCHOOL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ANGING TO AN “A Day/B Day” MODIFIED BLOCK FOR 2007-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Center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Dee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roject Based/Coopera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lanning &amp; Tea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partments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ing Smarter, Not Har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 to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s For The Future Grant, we are building classrooms using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ransform how teachers teach and how students le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more than just buying laptop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opening the door for stud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xplore the world whi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ining the skills they will ne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in ou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tech global economy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gram is not a luxury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a necessit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CLASSROOMS FOR THE FUTURE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year’s funding only made it possible to equip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classrooms.  We need next year’s resources to finish the job and ensure that every English, Math, Science and Social Studies classroom has the technology tools to educate our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4:58:26Z</dcterms:created>
  <dc:creator>Administrator</dc:creator>
  <dc:description/>
  <dc:language>en-US</dc:language>
  <cp:lastModifiedBy>mms</cp:lastModifiedBy>
  <dcterms:modified xsi:type="dcterms:W3CDTF">2007-03-22T18:48:54Z</dcterms:modified>
  <cp:revision>12</cp:revision>
  <dc:subject/>
  <dc:title>FREEDOM AREA HIGH SCHOOL</dc:title>
</cp:coreProperties>
</file>